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0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1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412C-709A-4FB9-948D-515CA2DC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7E8D-470D-4451-A4C4-9AC04C8F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D76CC-ED52-4FFF-8649-7F3280EC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9FE2D-5CA5-494D-AB11-6A797A9F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B551C-96CB-404E-B2CA-0D08F304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03374-72C2-4611-8F6E-4593B7B7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AC95B-FA12-486C-B7F1-B8342EE3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C8458-A0AD-4682-BEA4-C20B7A5E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FA781-523E-4AF9-9DD3-AF4E27BA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8509B-205E-4D70-A3D8-9A49F8E0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3164F9-6A25-4BDD-83BC-65D81D92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5BA85-347F-45CA-8D4C-4C554D65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CE4-5F3E-4B00-ADFE-07249668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09678-ACDA-4F26-93F8-70D3934F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F3CF8-6A76-49EA-97B7-A1AF3664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A9F96-CB05-41CB-9025-603B247A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DF330-8AE5-47EB-899F-803E9E5D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481F5-45D3-4C65-A162-7A85D7F4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C51F2-0F20-42DE-BB5B-51B34EC3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CC059-C163-4399-997F-BCBEE570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75C33-A485-4BD3-A595-B1407908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F0BD5-A586-4D49-AF7C-599A1080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9FCD9-1F94-44A2-B7B2-8DFE32FF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175-2FAF-439D-B7E7-8F7338B8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350FB-177E-47AA-A17E-9CDF434D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ECF7A-B730-496A-B1A5-66A047AC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0EE17-278C-47D5-823E-4EAE7EB2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F91EE-5C2F-44D0-85C7-B2C26E76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79F19-6304-431B-8EC5-554327FE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746FA-4A83-48D1-A432-A0929D47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87BB8-A484-4359-A7D9-0FC2A382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343C1-053F-4C8F-83B5-D7AE1293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AA0B2-8EA5-494C-B140-A61E05B5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B9493-E3F5-483D-89E5-36B4BBF9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05F2-B91B-4A2A-BDB5-CB0AECE14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F7A1E-6F62-498C-8FFC-10B0E24F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49465-D30D-4F36-AC10-0785A0F1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6AFD3-6DEB-4CA2-92BE-64CB9B0D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00D03-23A8-485F-91CF-7DF86438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CF0B6-16F9-46ED-9E33-35C8A667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020C6-2A15-491E-8F24-ECA8D61A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85F43-8B23-42D9-98B6-61591EF4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FD976-CFBD-4880-B297-DC387062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03EC8-638D-4D0A-BB0D-F9D48095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83B8C-050F-4F72-AE89-43B89AB4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9FF7-95C8-43CE-9117-C702825D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B04D8-EC1E-49EC-8478-891BE1DA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2349F-E2E2-42C8-9EA3-156A70C2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4B9B3-0DAB-479D-93D0-3B0900D4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FD66F-F9B8-4063-98E8-D42C2C27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958CF-08B4-4829-9358-6582A554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D0F7E0-2891-4A65-8B9B-47E3412D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5D1913-6BED-4BD7-A442-7B7608C1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B870BB-5F96-4667-A63D-43F4DD73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8B3019-BFE6-4564-9C40-CF59E039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E11076-5B9A-4664-A997-46DB6A80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D44A-9265-4579-B439-301B5433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94DC91-02AF-4CB0-B9E9-56F8E548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EDAFE6-6A6A-41D3-9C16-506F89DA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282697-CF65-483A-89A6-5DFACDF9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0F21F-7779-4099-BADE-D145F23C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E1396-699E-4A7F-AB37-7AD03418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EC92EE-1D23-40FC-ABC5-FCBF7DDC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1086AC-20A7-46C7-87FE-CBC9B429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8B36B9-B198-4A5E-B38F-D9FD51EE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8D485D-35A9-4A6C-B61F-2C9386D0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13C9EA-797A-4DAF-A412-A6ED2023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4B1E-F576-4905-A813-9B052129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8F9F58-00EC-4FDC-B274-D70A2D5A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DDA349-8AF0-4C3F-8E0B-3A27616E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1A126D-8817-4551-AE93-B350AB80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1D7404-3844-4A60-A302-C0F8766B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7B402D-D670-4242-8493-75F09928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34AE8C-31D2-492B-8658-FD0B6BB4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37E45E-6975-4A00-B263-C788C29B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489A4B-3615-4783-83FC-7EE48FCE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B9BBB4-8D93-4056-9991-41C98BC6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5044BE-37C4-4546-90BD-2EEB6969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6798-1FD2-4934-889D-5C6BEEA7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7311D4-DF06-45B1-A472-C1CBB14A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7479E6-1E5C-420F-9A41-905C63D5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61451F-2B1C-4391-B7D1-31882051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890761-4548-4937-8637-6264DC83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0BA5C3-0522-46BA-B72D-F35B3C34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BC54B9-8E3F-4549-A6C0-81DFAA2E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0FC0C2-E932-4177-8F79-2064B47C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92FDB2-1EF4-4731-951E-C91C6609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4FA935-C366-4562-9376-5DFAF0DC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9D75C5-F641-41FA-B5EB-0072893A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2A23-66C6-42FA-843D-319EB34E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2880D1-3246-41B1-BF4A-8CD29E64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FCF0FC-DDFC-4245-80FF-9E2C3574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507B27-905C-4026-8E15-44CA6B88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F12477-5F0C-49E5-885E-94F1199E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227113-AAE7-48B6-A849-1F8359BA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5A29E4-35B5-40FC-A0CD-C13068D0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0308BA-1144-4DAD-99EF-AA43192B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796840-9A55-4751-B00B-FB993342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FCB634-2F62-46FC-B3B0-FA4D0A00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E6701C-A617-4D76-AD3F-4E1B4981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F8AE-FAA3-4BD3-89C6-A0D32083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FCAE34-4D0F-4C47-9CAD-64A9FA50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A6B5FE-CF53-4AF3-A7D6-117D09CA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1437E8-7DB0-4602-812C-86285C8B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DC3629-9FE5-4B53-8505-B269E337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BCEE36-D971-4CD1-AF0F-7CBDFE77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591D3A-5B33-4798-A035-2C6D514A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41ADEF-794F-47ED-AFAD-B77E1D6A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A26F1C-34EA-4772-9FE9-378EBFE6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6D845D-628A-4F45-891D-AA23A07D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312BCB-F5A0-4167-9900-45384135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2365-5968-427C-B5C4-899A544B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E79D-6F1F-48A5-8D2E-F64CC653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FA721B-CA03-413C-897C-505ABBF1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6181F1-6B8C-49AE-9C9F-C50F3796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2D5ADE-F753-45C4-84C3-13244B31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1930FE-C92B-4343-80EB-1F859DC0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7E1DEE-7887-4900-B33A-AEC997D4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EAA5DC-B64E-4655-A92F-A2968E24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AA3288-64C0-4AEF-A009-5526C525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7D9597-237D-445E-97E5-2B82827A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3559EF-8234-410C-AD14-F833E8D4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92C0F8-40CC-452E-B5B7-80B28336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9FBD-DC7F-454D-B68D-C5835771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F1AC77-CF40-4CA4-BBB4-F6E884F8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D35118-CD13-4551-8706-23B44E3E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D42BB7-ABEA-4BF3-B3DE-D86E7B52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038A75-0F70-4AFB-BE0F-6BD9EFD3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FE8403-C20E-4A6B-B2AB-72C7E0B8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95AEC5-F6B0-460C-9E8D-1823DC55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030010-D88E-42D1-A09C-6A13A967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90085E-6F96-4601-88F8-1E3B958AB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A21623-6B59-42A3-B694-D8F93583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20CA4A-4E90-45BA-8006-0B9363AA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41BE-DAAA-4D55-B46B-D1E23176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BCBF13-4A8F-4AE1-AB21-0717B52B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B9F511-9298-4D19-A4DE-2DB510A5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03B0D5-EBBA-4D55-A162-0B15D428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C7D6C5-988D-4D01-9206-ACA15E29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F3678F-88A2-4949-AA5D-CEC72A49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AD4ADE-DB7F-4EDA-9589-489137EC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E237A2-4826-4FFE-86CE-7C732F54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D11F72-E7F5-4BFD-BF6F-9A8B5E36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EF945D-80C4-498A-AB54-4A778918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624C69-E030-4B72-96CB-E0C1A8CF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0DBD-2E47-40D1-91F8-EAE67629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819AE9-AE6B-4881-B493-8A5DAB3B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DAC582-BDB6-48D3-BB24-A1A3429E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7DB5D2-A64E-4CA4-B0B0-7206DDAC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300060-4E21-4D81-8366-BC7D1A9F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B965E0-C4E6-497D-AA2B-016B9E1E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8954E4-3F86-4016-9439-9D60907B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F36238-0E7A-4B05-8EC5-9388D534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30D537-9675-4895-B138-4753F425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C7821F-2B26-4A86-A72C-4200A8B7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3B7FFA-EBCE-4C62-B792-9070452D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9A1E-1CD6-4F85-B4FE-73F51A9C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7FBAAD-294A-4FB3-8795-E35B2352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129275-9AB2-4C6A-9F94-0E6B79E5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312408-FD19-4784-AC83-8DBEB903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1FE494-F893-4DE6-9DC0-2B1F4A18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511891-42D7-4B65-B970-5780E320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943848-7C05-4C7B-8057-5E443F00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D50421-F72D-49CC-9164-D4FC2FC8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C3E7FE-16D4-40C0-8BFB-B371D6C9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000F07-DA2C-4507-9811-DC3012F8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CDCAC7-2A8D-4E12-83A9-C09FB4E9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A476E-C5D3-439E-B73C-D8AC945E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FCA411-0814-4BD4-B05D-A11D481C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474E58-1D78-4CFB-A3E1-C77252D5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7E430F-6117-43D6-A715-3E6ED7F3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6C0DA6-BD18-49BC-B2F2-A304F33E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4A4031-5B9E-416E-968F-BE18E928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73BCE1-F312-47EC-B0D2-78442FDD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2C7A44-9435-4425-B9F4-1BFC7857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78B755-A432-48B3-B77F-4AD40F1B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1D6E1B-B46A-49B9-9B09-CAD9357A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5BA8A4-93C8-48F7-81FB-27BD653A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B745C-38B8-4E4A-9E7B-2ADFAF34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1D24A7-C423-4971-8E0E-C44A3E11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1711D1-D38D-4911-9658-07BCC0D2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BA4C21-F6CB-447A-A496-C6A6C292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7263FC-DCE3-4549-9DCA-B269A0E8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5B7495-7DC3-45BC-A35D-655BF11E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6B7B1C-32BF-4ABA-9140-DCC522A9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049BF7-4AC3-4982-BA81-E38AA67A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425412-0E96-408A-8F5B-C357736A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88BBDC-92CD-4FEB-B092-3B78CC2D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63B1D3-F2F9-4019-8641-B297B2EE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069AF-2028-48E7-8B44-6EDD9CCF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34E36B-51E7-4E9C-B903-7453A1F1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0AD32E-F64F-4828-8CD5-5245197D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103423-8A8A-4662-A22A-22F6967A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C86AFF-5650-4D3B-8D5A-6F82090E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E2D6BB-ECF7-497F-8583-26038EA0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6620F8-9FAF-4897-8E05-7FC1AF2E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328699-1FCE-4CF7-94BC-8361254C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065497-9D1D-46BA-8EC8-9E848A63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AEB780-B7FF-411B-8543-869DCAF6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82D64C-4AEA-43AC-B206-EB727354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367AF-90B2-4380-8696-AED2C578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1CCD42-1907-4EDE-BA9F-5F0BF3CE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AF3E28-D27A-4FC3-87A1-E4EFC3E7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5B9679-CAF1-479E-8BED-365831D4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A7B545-AE7A-4016-85FA-1F745F6A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F991E4-E11D-4F87-8B75-AD71286D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B2A9C8-2E77-472D-811F-3C91A9CD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57DEB0-AF9E-4721-9344-C4247F4F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744306-2FD0-4A47-AB0C-1409FAF1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AE2408-50BD-4370-9F21-5FB6832C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D0426C-3D0D-4BE6-8598-4A8972FD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33625-E221-4B2B-92F3-C709C381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3DE4E6-A877-442F-AB31-9A591C15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B5C933-3B1D-43D6-901D-6A19E5E2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20515D-4148-4501-9830-8BE8290A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ADE1F4-6A77-460D-AD8A-C5E340A8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36A4B7-6096-433C-85AB-71BE2215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26FA82-C9C7-4709-A2E4-D5AEE1A7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317000-F8D7-474D-A09E-167CA608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E68CB4-ED6D-4BB0-B066-B04EEC67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4EEF2F-49F3-4CEB-8EAF-77AAA907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B992A3-8029-42E4-84FA-CA9CE106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9710-9613-49B8-95D6-62EFD0A2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1201E-EBB7-47DD-92F7-DA71624E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907B07-86EA-4CD1-94C6-2C84676F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9EA40A-600C-4559-8A91-A0B6562B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1E8ADC-C49F-474A-9B48-48957CD7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9230C1-EDD1-41CD-ACD8-5A1CD5C2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8E3B91-E561-4E96-AA19-7D95BB2F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5B27DD-E4B5-41EB-9E73-BDC3C262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E4C0B6-0D85-4C7E-8E51-7ACA9247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C8756D-1463-4239-A0C0-3F9F1D29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2052BD-3628-4300-B125-FDA50B9C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86599F-1E04-445F-8AC1-23582CAF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F29E0-D398-4242-898B-DF507C69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B866F7-4A2D-401E-A03A-55E1355B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1DC8C8-9022-48C0-8669-8C64B72A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754E23-A05F-4E39-8A25-587B6D0F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7CA18D-3D21-41F1-901D-A44760BA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9B51CA-D09F-4CCC-AC38-1280F858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0B58E6-542B-41D1-A68B-D7DA507A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E45342-E162-4CC6-9FB8-AD03D575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938FEA-BC67-4072-95C8-D5071767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CA5818-C8BD-4455-8A31-B38F846D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3C69BB-44C3-4CD1-A5EF-50C97B06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DA627-C534-41D3-AD9E-3D6349B5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C0C48E-B46C-48CB-AFED-5AD6E021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84F13E-359B-4BFF-B1A8-6583A112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72EB36-5810-4DBA-BC5C-77A8D50C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C30FB1-304A-4C58-9414-93152CB9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F98D7E-151A-4645-B054-EFCCC244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CE1EA2-2730-472F-B7D4-EC0C3426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3F7C71-B8CE-4EEC-8E5F-31A81BC1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9B7D0E-C310-45CA-9631-C565A715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ED6773-A582-4216-8B77-9796FA13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063348-C9DB-4599-AAE1-F5480100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591E4-8C28-4F33-BC23-562A7784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F5E7D7-B1C6-4F8F-8E72-ED507600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9F33C6-59A9-454F-A246-66D6D6D1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6463AE-D8F1-4286-ABEB-0B0AEF3E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1253CB-17F7-4156-9BA5-940944F3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DBCC54-4DC7-402C-90BF-12F54D9F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A89D95-43B8-45B9-8A28-55B7FA31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07F0DF-40B8-444D-A25D-EA6A6711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7CA690-FDBE-418E-A7F0-7333A73F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6531F9-AF37-4D29-A7EF-BE93CE72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696436-07C8-4675-B843-C56AB269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4C98A-A31D-47E1-904F-E556AB59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57EAC1-C865-48CD-B7D5-2D1A8D1A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BC127B7-B938-44C8-9EE7-B7DC7D06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2198CFE-8F52-4071-ADAE-3CB1BFA7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508C77-CA75-4202-96BB-E13271DB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C9BBF6-3964-4698-845D-93F51D84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3FD18B-B517-453A-B46D-AC3374E0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112771-3486-4E03-B0D1-D79680E5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67043D-591D-4DA5-8DEF-3B7A2C9F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79BD03-1984-457A-B821-7DE9CEA0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922610-9930-46FD-B44F-D1686CDC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4E9AE-92BA-4808-81E7-E76A8BC3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F32B0B-2E69-486D-BD58-43C2C522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774657-2852-4409-8871-8534EB4D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4169AA-D37B-4668-BAB5-11423204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85783F-1880-4C6A-BBEF-6F25353C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5D5937-CDB8-44CD-BD89-918F9CB5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3EBE8D-F4B2-4D48-AEA4-D61D65B3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1650FF-3820-470D-95CA-84EAAC4F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D23700-7A5E-4728-B6E7-AE23E4F2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06F0B1-FB7D-4A92-93B7-5B86238C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84A210-2BAC-446B-AE15-0BFCAF67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B8DFD-DA9B-48D1-B9B1-C4FBFE35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611E2C-BA21-4073-94D1-1CF9B606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EDA346-125C-4C23-8754-802F38CE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B166F9-C900-4FF7-AD79-5366082C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F9166E-BE0B-4A4F-9E00-A2242CC4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BEDF85-6F10-4F5D-967B-18B18E89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041D5B1-AB5E-4BCC-87F1-99C36300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EE266B-C715-4207-9E87-41CFC937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DCC01C-AA31-400A-BA7C-2144AF49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7460E3-EBD3-4AED-9C81-36976692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B11B69-925D-466E-ACB5-AACA0DCF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D1063-9400-417F-8669-1EC79420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6ABBDE-F61E-4082-895A-A9AD9801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67CCF9-BBC5-400F-B967-FEC123FE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70471B-D2E9-421A-A5C3-AF720141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ED3C0B-9DFF-455E-9E02-2C1EFE88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99106ED-78B2-4B50-9CF8-851DBB71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047ED8-CBB6-4EEA-85C9-6786C428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C331068-EA3B-4D39-8F3A-927739AD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2E4152E-46E3-4859-9EB3-422877CC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73013E9-1A81-4B0B-B8D5-5BDAC1A5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1AFEF0-DEB6-4BCB-99F0-90F6A03C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2D226-B31C-4F65-8A71-1E08698C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A9583E6-DE93-4D93-BD1E-5467845F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3355DD0-4F6D-4622-AD93-F080EAFE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E8A62A-FE79-4EA0-8F72-5F103BD9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C106AAD-2869-4994-841C-2AB05315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F3119F-4D0A-4BAA-8170-855053F5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C2BFFED-27E8-40A2-877F-11A3727A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B6AD9B-66D8-4880-B559-9294719B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BC8C7A4-2103-4CAA-845A-535271F6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543E54-8AEB-4F52-A5F2-8E6EF61F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2FF3D3E-163D-4337-AFB0-131CD5E3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B3920-0B02-42C8-9AAF-4EE76020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A24CE95-8F8E-46E5-97FF-228EC339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76FC91E-7BAC-4A11-A9C8-F107E910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097CADD-6D45-42CF-8EBB-FE5278B7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77DB045-10ED-4BD5-AF65-04B81D8E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00098D1-7D24-4F58-B7C3-C699C5DD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AE4EC53-12EA-4D6A-9E68-8847F1C7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CF83962-D1B1-4727-B339-26766C47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91BD9D3-2C44-456E-AF81-B72DC549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12E84CF-EA42-454D-B34E-4F005D78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06DF3DF-40F9-483A-A7B7-97D3D8CA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7B42-8ACD-49A6-BD01-CD275AA3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7F998-A500-496F-9251-A4C8CE93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0F10555-414C-4620-8D28-15CF7E1C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CFE975-DC44-4A65-9E52-A1657663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2911F6-C4A3-4857-91A9-9B66F005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2662C02-D414-4056-A898-6ED32641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2529DD9-98EA-45C2-8C7F-F59670AB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44A4764-0C4E-4DDD-9F30-FABF8D1D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89145C-8AA2-4AFE-9A68-B838F947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943C1C1-7851-47CC-A77E-3E916AC4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D714059-B4A9-4D06-899C-2E4F66F9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9AAE345-ABC4-43B7-B181-E6A6F582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DC882-A662-4CD8-A276-00F218AF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58C6405-8849-4241-948C-92D830C5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5F6587E-0922-4B64-BD5C-1246B45A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9D4F9E3-466B-48A5-B9B6-399E2121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7C66A90-47F7-4413-968F-4B3C1E65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CA4896D-4B49-408E-A122-40020F59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264FAC-E5D9-4840-86FD-4781C419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2DA91E0-6422-4139-94B5-77AB89BB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49C1C5D-F76A-4AAF-9CD4-165406B0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068A8A1-7DFB-45A0-AFBD-36DFF41C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A7C4F81-1237-4B36-84A0-70E4B8F3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8173A-D109-4B4F-8379-46BA1F95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8A16A23-573B-4D7E-AF21-384AF5D3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4D9D795-8851-44EE-A947-0E3F5BDA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0683D0C-32A7-4D3B-8584-5A3C29A0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C3E653F-4B28-4349-978C-0547F99C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718A35-1FC1-4313-B393-D7BF200B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4C31D30-958D-4871-8DE4-4F2D3334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E00AF48-FEB8-4EFC-89D7-A9418B8E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4A0E333-062B-4497-8B4B-73456FF5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011562F-4F3D-4B9D-8EBA-F2A97C85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C68E6EC-A27F-4FDA-B22E-174449CC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EA04E-1E21-4AD5-A4AD-472610E6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D070AAE-C8D7-4A70-9926-ACFD87AB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37413E3-FF2A-415B-866A-6DE02054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6966675-3C1E-4B7C-ABF2-1A541F82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FBBE4-A4BE-4804-A726-090B35AD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28227-46CC-4FE7-9FE2-1479B8E9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4C4BF-59E0-43C9-895E-812AA7DA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A0593-7528-41F0-B4B7-3043E5AD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46CAA-CC36-425E-8E14-88401F62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7499A-C939-4449-B56B-6BCF22EB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482F-F259-4F14-AAF7-CE6F0986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83BBE-BE7F-4C94-A1A0-B1576904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A8BFC-07BD-4CAF-9A0D-4A040EF4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7DDD5-26D7-40B5-9082-057A8FBC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B4618-AE89-42F7-B5BF-A8AC9295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8041D-E4FE-4C26-845C-5D55EF85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E90A8-3BD4-47F4-803D-4DA0E0EE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144DB-ABCD-4C72-8150-F7162E79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C5961-BB01-4C8B-A2A8-8AC16AD2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C3CDB-3F8E-4D20-ABA4-07E040CE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72ABB-FFFE-4CAB-9E3F-FF7805C6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EFC1-B111-4D13-B771-614BDD9C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99667-05FA-4D8F-AE32-3EE18FAA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EEFF8-3C07-43A5-96DC-1756DF31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22DB5-5D4E-49C0-9D5A-0E63128C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62236-B694-4BA6-86FA-6BE5F129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88EF3-4F94-4CC2-8738-4F808045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6E6D3-C1A2-4A19-BF10-F0A276AA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2AAEE-717E-42EC-B83C-76106A83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A3279-A7AB-4384-A889-765FB3F7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EAB5E-EC99-4827-B2D8-7DB19E04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7D213-505E-4FCD-B1CF-03CA8564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A148-E00A-45C5-BF7D-108F0E3F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D8A93-E0AC-4E95-BF10-13B0837E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3704A-CCD0-4153-BDDE-0580C9C3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4DE79-1870-488B-8B47-6DC69B33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F8628-DA40-4F99-A775-A5EC44A0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BA379-18A8-4F60-9F71-8D118800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C4B77-45A0-47F1-804D-29688474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48FB3-0C76-46C0-9000-59E4E411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E5240-7301-459B-AF5E-0EC3B842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46B96-6CDB-499F-8142-9CD29119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C2C41-01B1-413A-A219-89656E41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CC85-23A1-4EC3-A442-10039ED0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1A638-7833-485E-9735-F154F233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95072-6786-47DD-A3ED-FB72A5E8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04349-3803-43EA-99CB-937AB70C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C5F59-0D6E-45BF-80D6-43D3C4F8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4DE39-73D5-42AF-9C47-591394A7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84FFF-2A55-42A5-B1E7-9491AA02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EE658-1C36-4D6D-AC0C-48FBA60E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62FC3-5B0F-4EF7-A884-B46A1350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D5568-3EF2-4C33-AEB0-820C2CD0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22C24-DE28-4EA0-9075-205C329F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3911-49A5-4FC9-B9CF-B250F3BA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71E24-BF50-468E-8E1F-8BE37987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E9CCA-7293-4CE9-AB5B-F66826D8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95240-C21D-4652-85D3-B7649640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8E8AB-BCC1-4D4A-8E4C-08EFC52A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14040" y="429156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1CB2C-0C92-4C4E-96F3-9A48247F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18960" y="228564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18960" y="429156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A6E72-9B5A-4279-BB58-C9B6DDBD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49056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67080" y="228564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1404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49056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67080" y="429156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4B468-1281-4005-87D9-3B150BA1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30AAE-D334-4BA1-B0B7-C5B8CDBC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050F8-16F7-4C48-B89A-A0F4E409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B0EAC-F086-4189-9663-5C6C5D57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53B5-F799-4C46-B7E6-6D68395EB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6FC6-A49B-4AF4-84A5-2346061E8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925A-8D05-4EEF-BED8-A09D1BA0B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EAF1-2EAA-4F67-9912-DDD62C07F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04A4-CFCE-4C55-9BD4-9596E81BE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D3B7-A9B0-49AB-BB54-A125DFB83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2512-673D-4B42-9C34-3ACB3AFE3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6DAB-69BD-4472-AE26-E5FDBA767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5F9F-81D9-475F-86CF-C589B93DB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4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324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E4D2-E97B-4A1E-B23A-0D301DAC6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66EF-DB25-4EFF-86C8-72B9FE580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97F3-D511-4004-B790-7BF624590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DF9B-9AA7-4BDF-BDA3-C3120FC03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ACD4-3D56-49B9-966E-862FABD74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9615-BAE8-4C08-8898-125C8280E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ED91-FEBC-441D-9662-FBD352557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6DFD-2260-4935-B1A4-5649AFDCE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1B20-BCB0-4D81-90E8-0D918189B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18E8-16F8-4D0C-9045-4C1791B17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EBAD-4787-4017-A86E-18506D680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0AF5-679A-4F7C-B646-FA60EF7A9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9289-B5A6-4268-949D-05B18FA20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A849-353C-4608-A7D6-04C356CD8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50A3-8CAA-4AEC-A042-87EA48C93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C1E0-9466-4207-BFD9-C0466404B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795A-A177-4C52-A8B1-4B45D340E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8C7E-48FD-40DB-A563-5B43E9312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9CB4-8CCD-4878-B356-7208148C2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6D61-DE9B-49A4-86A9-1AE0918FF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730F-44E5-469E-8412-90DF68B21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2A35-5A59-4C87-A5C8-2CFF449A7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82BD-ABFE-4ECB-9B7C-E6DAC6CA6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C95B-DA0C-422C-8A63-0103E17DA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6FE9-0ED0-4087-BD42-FFE4B673E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1795-53CF-4788-B795-5CE6ED16B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43000" y="297180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E21B-3CD4-4527-A33D-B3104AD86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4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4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10.2: Evaluating Radical Expression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6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What about simplifying higher index roots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6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9x *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7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be able t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rad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y radical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radical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ximate radical expressions using a calc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All about radical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x equ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you find that ans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mb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√ is calle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d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ymb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no additional markings, it symbolizes square ro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ever, when any number, symbolized here as n, preceeds it, it can be a higher root (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√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Properties of radical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not take an even root (square root,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ot, etc.) of an negative number.  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mbol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a is used to describe the nth root of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is called the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s called the radic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Using your calculator to find roots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√a can be rewritten as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can be keyed into the calculator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^ (1/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y the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√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√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√-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he product theorem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ab=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a *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y the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5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16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he quotient theorem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0" name=""/>
          <p:cNvGraphicFramePr/>
          <p:nvPr/>
        </p:nvGraphicFramePr>
        <p:xfrm>
          <a:off x="1066680" y="2743200"/>
          <a:ext cx="1352520" cy="200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743200"/>
                    <a:ext cx="135252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2" name=""/>
          <p:cNvGraphicFramePr/>
          <p:nvPr/>
        </p:nvGraphicFramePr>
        <p:xfrm>
          <a:off x="1905120" y="4572000"/>
          <a:ext cx="1466640" cy="165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4572000"/>
                    <a:ext cx="14666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4" name=""/>
          <p:cNvGraphicFramePr/>
          <p:nvPr/>
        </p:nvGraphicFramePr>
        <p:xfrm>
          <a:off x="4191120" y="2286000"/>
          <a:ext cx="4429080" cy="2847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91120" y="2286000"/>
                    <a:ext cx="44290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Multiplying Radical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either simplify then multiply or multiply then simplif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5 * √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 * 2 =10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0 =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ever, sometimes you will be left with something under the radical sym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a * √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√3*3*2*a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3a√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Try a few..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* √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ab * √6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8:03:58Z</dcterms:created>
  <dc:creator>nuhs</dc:creator>
  <dc:description/>
  <dc:language>en-US</dc:language>
  <cp:lastModifiedBy>nuhs</cp:lastModifiedBy>
  <dcterms:modified xsi:type="dcterms:W3CDTF">2007-11-16T21:36:45Z</dcterms:modified>
  <cp:revision>7</cp:revision>
  <dc:subject/>
  <dc:title>10.2: Evaluating Radical Expressions</dc:title>
</cp:coreProperties>
</file>